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49D-2D35-4F63-90A5-E2543422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9BA-B932-47D3-93E3-7BF8DA03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BD68D-5267-4DBD-86C9-052B3312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9C90B-2878-4B8E-8EA2-7DE4F1DB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6D0A5-655A-4EA8-9C77-D3681131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548F7-BCEF-4448-B865-382474D0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CB4DA-4A94-467D-A5B1-4F786963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435A0-36C1-4B37-A7ED-8DD92C45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19FB1-458A-49D6-9740-2F2AC7FC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15014-6F5A-466B-9760-29DF2D20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3DF8A-D651-48BD-8EC2-B668B236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14AA6-233E-4294-A54D-E2325E41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663-A967-44BD-9F9B-6C5D3E87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9B51D-8B0D-4F82-892F-3F4FECC6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888A6-CD04-4365-894A-DF241109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B5008-556C-4B87-AD4D-33B4519C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FC871-FD55-4184-AABF-3664F349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9C0B2-B22D-47F8-B4BE-81082210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0B5BE-E897-40FB-AC7B-0A092B70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917C6-626C-473F-B15D-049BE560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95F7A-37B2-441B-9689-3A39AEE6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D1F63-8D36-42B8-B1A5-85C4AAAB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587BE-B2B1-47A0-93C2-D306C112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84B-C6AE-49CE-9BE1-9C50D26E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0AF25-78F6-4820-A175-AC38072B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1051C-FD16-4904-AAE4-0A591E52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C1EB2-DCD9-4F4C-AFD6-FB589BE1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65CC8-AE6D-4096-A7AD-01AAB5E9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9F354-E946-490F-A10B-496EF7E3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0D77E-D9A1-4E1F-BAD0-62E0B39F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57BE4-EC78-493E-B398-E7084A2A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6CDB6-BD72-4D3B-B792-C243C5D9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C3D68-EE97-4112-8A5A-48E13FBA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10096-493A-41AD-8423-6015233B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D649-C5C8-40A6-9CB8-6F8D7D31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BCE3D-7287-470A-A3CB-80191B5E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DAC49-9E41-4862-BDCB-07156894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87D42-9EAA-4594-8717-3A0CBD48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3E6FA-7C01-4D6C-BEA7-78A844E2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F467B-A782-42CC-9F77-E8F9BEE6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DDBE0-C497-4B97-B263-8A703684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220D6-FE39-4CA9-92A1-4D5E8397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128E8-8708-4A47-B2E7-7F7CE7A4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F675B-8D0D-41D0-9506-6C77F38A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0ADA4-21DB-4397-8DCE-AAA3CC95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A60A-04FC-4670-96AF-68769A6F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434D9-956E-47B8-9E83-98FF7CD6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CC03B-2ECC-4247-A19A-CDD7C934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31788-53F3-4441-B2D1-E9EE2400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2A499-5E6C-445E-8433-85612E34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611FB-2953-4CEE-94E3-7B47CF00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EEEDF-7688-4054-9363-0CC7E625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D6169-E55E-4C22-8D48-BFA168E8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977B8-670C-4966-844D-CAF14758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6AEC0-4C2B-445D-B4BE-48B80A51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27436-0963-45FD-A040-7A8C3315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0339-83C1-49A6-9C8C-94596221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0ECB3-1827-4F20-A1C5-5681EE82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157CF-9B35-4FF5-9643-EBD78C13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E5EBB-C948-473E-9955-67D8638A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C5C26E-7B99-4342-8A87-C824BB90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DA1A3F-71F1-42F1-A537-C5CE5D20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43ED0-6C12-4E91-8A3A-E92AF433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8E5101-253E-4B13-BABE-C7404F7E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5FF208-79FB-474C-9015-022064E8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5593B3-0C26-4E57-AA91-88EDDCE3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7842CA-0848-4C12-B212-C4A0F3C9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3883-1A21-41AB-8A5A-B6FD4FFF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365A43-01E8-4071-80D7-07B1EEC0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2B6F14-CF7E-4C0C-BEC4-9D84879E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DD8286-9E5B-4BE6-8C29-32E9BDDE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63C97D-ADC2-4B3C-9AD4-73153FA5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15479A-959B-4AD4-BFA7-827E2EF1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8D368C-F815-4229-AD45-8B0653C9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194325-04A8-4C9E-B497-7D606FE4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7C11A7-4CA6-42E2-AB2B-A578F8B8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A479EB-BEBB-4021-9A94-D08009F7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02CE7C-0E48-4158-8E70-5126C0A5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396B-8AF0-4119-B886-105D75A2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6F6EA3-6193-46F1-B161-9A6AED22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5ABB14-A565-4041-A6E8-A3B14E12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031DE5-5A55-49D9-B5D7-AE67992E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ACE42D-82D5-4F78-B2BF-328A8C82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FAA6A4-403E-49D8-A949-29949881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606C83-EDD5-447B-A787-64E1C62E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AA5F4C-A766-481F-8E43-E934F7D0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73F7AB-40F7-4B9E-92ED-484140E2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827D21-8FA5-4D95-BAD8-9CAB17FC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04FB36-CC1E-41CF-A703-A3A1EF8D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0D54-C2DB-4CF4-9060-5C485704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66AF6D-A1DC-4C32-BCAB-011D48D8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6F8478-795C-4372-89EF-101F64BF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F66A8A-AF6E-42D4-993D-9880AEEE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D2BB80-5D89-428E-B160-408F20C2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D768ED-05F6-402F-B659-826E9C78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301061-56AD-4FDF-B729-F81A013E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929C8E-BD02-44AB-A4F6-FC27C510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AC21E0-BB5F-4383-BCB0-AA93833D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8D2818-11C2-4D73-9964-08113A08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E7709C-B4B9-4669-BCD7-9CA70703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3481-E2F5-4E0E-8D76-8BFB9B0A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69552C-4C7C-4BB6-A90F-75797EB8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69EA4B-DC3D-49DF-AA24-0F73AA5C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66796E-DFBC-4B4C-9EEB-1C7611FB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FDB82E-DEDD-4EB4-8F9A-F6004B8E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901DFF-9F6F-4A9E-898D-83D5303A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728A1A-8DE1-4397-908E-6B2CC5FB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6680BA-F53B-4EDD-A2C1-A7BAAA17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6709F0-13D7-49DD-B2DA-74412D9C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C69535-264E-4294-A4A0-684F174E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A856B0-D16D-4F86-B73C-1C12920F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B35F-6D88-4676-A158-AB8F6C52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759B-A145-4D04-AC05-E70CC74B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8A4C16-F613-42D5-BBA3-B5C48EBF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867504-59FD-4BB8-9AB1-0357816C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EF3D55-8DF1-45AF-998F-753C5F3C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99471C-7A2E-48A4-8569-F6CEEC68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19C233-D5D1-4A47-BEE9-6C3C70E3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600C32-AF0B-444A-A861-EA79BFDB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2CC44C-B608-4126-BACD-883FDC5A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098EF3-7F15-4F1C-ADAA-897A8F12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5D453C-E331-40E5-9FC6-8222FFFF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3139A5-805F-455F-B0BA-3F84DD7F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6CF9-A0F2-46AF-90E9-644E414E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0E64A3-E841-431A-BC3B-A6D7C002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DEFB93-85A2-49B6-B891-CE002AA3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792A1A-A889-4EC7-A538-2211B172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A71F1A-AAB2-40D6-85E5-21AEC025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4F3766-70FA-477E-BF5A-0F17788B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38C918-8079-4312-9EAD-151C4B00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9263E0-486C-4913-8E2F-E4EFB309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521AA0-F226-43A9-8AD0-C80EB4E6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A0611B-4FED-4546-9256-9A0E5A80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CB1650-D15C-4426-B0D7-DBB1F70D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108C-F1D8-4571-92E1-E70BB19E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5B8C82-7B85-4844-A2D4-D608E32B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FEE631-7791-47D3-9398-9073D633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546E03-AE28-4DEB-B224-D49397F2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61E3CB-411B-4A71-8605-1FDC2304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1E42B0-F6A8-432B-8BC1-79EDED7C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AEA935-4A72-42E9-9B99-3A2688C1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2D2BFC-7B43-4F98-AC1B-D909ADDD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0B983E-F761-434C-B72F-73953B23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1BA457-2710-465B-A6E1-6FF0903F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7F6E92-28E6-4AF9-9762-B11B9FDB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94E8-CA93-4541-AEB1-9625C768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F9F34D-AB40-4E34-A652-3ECC5EF1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563967-5C38-4119-9791-E4D8B5EE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A06AEC-DA5F-4A95-9A67-59E2D67C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4C1F2B-529F-4276-81AA-07689D47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04FA52-856C-4B53-80E2-7B79625B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397BD1-7325-4A59-A148-72E9293D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31ACE0-AE71-42D0-8487-060187B5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D3499B-F41C-47D8-B585-C612A6E0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E3A0DF-1AA7-47D4-B1ED-D0FC7D24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17054D-5443-405B-9CB7-E2BAE9A5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781F-2A48-4F93-BE5F-81528C3F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380DFE-04EF-4C0A-9BC2-8CF89DE8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7722B1-5F9F-4B1E-9AEE-8186CF11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5FE503-5F2E-487D-A21D-B9379FD3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A9AB6D-BB69-4D50-B857-905395C0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B613AD-BE5E-4314-85A7-1765F681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AD21AE-C46E-4390-B659-56A3CBD4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E18A54-0ABA-490B-9552-CF65A02A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6DFF72-7309-4F53-B5EE-383C8E3A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AB269A-85AE-46AF-8388-3CB569B0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4341EC-7E30-4E55-B3D0-4CAC3493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07B99-0EEA-4C70-8E62-6EA94F8D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8F835B-7BA3-41C3-9F46-1F8E953F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DC8CB7-5797-4119-8A2F-73DC58AD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E6BA98-E879-4CEA-881F-6AA12707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A76E20-B1F9-4047-90BD-09528D0A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F009D7-0B80-465C-9151-FC210BC3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4E2F6C-0674-4303-B9CC-7526C5C6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58C338-8AC5-45B1-8781-0BD49F92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6AABC4-17B4-40F6-82C7-A85AC147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F5E1CA-B839-46DD-BD57-F3C9C4A3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AE82B9-BDB7-45AF-AC78-292601A8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AFE94-9F4E-4C8F-8A6E-B7993C05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66541C-3C2C-4918-9BFE-DE3C6A1D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01B9BC-0591-40F7-9CFD-A2EDF5B8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600502-F29C-4C5A-B069-C0820D3A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C3451E-11AB-451A-9417-8544AC75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87C935-0D10-4819-AB88-AD631B8C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15911B-A15A-4690-8365-134D2393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203DA8-5E41-4234-9BCC-3241E5CD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3B89C2-8584-4639-9B8A-B146B8F2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6B5E11-A607-4846-937A-DDA08FD6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F39419-1637-46C2-9911-143645EC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42BD6-79A0-405C-800C-43D0E6C2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56335D-8907-4581-A08B-4E888A60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5DFA7C-3A7E-4465-9974-EC3C4561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EA3A67-6561-43C0-9D67-7C0488FC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352B36-AC9C-4692-9D2F-4A5FE2EA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6F5AA8-94F4-45F8-BE5E-AE3E2076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613AE5-A1E0-419E-9816-BE3158C2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3E303E-AD03-4881-B15D-50380722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EF855-4C7B-40EC-ADF3-CA70DB59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88593-85F0-4AB0-825B-E17C195C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6A2E-54E9-427B-B24A-881BE3CF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19E78-7C94-4D6E-B6A2-32D829D5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29B16-4098-4E8D-9A0F-4E47B357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338FE-EE87-4919-903F-64D17C0B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BD1EE-754B-4335-ACA2-A122744D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9EFC6-F831-46FE-BD06-135590F0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A46F0-B647-4873-8989-6887F5B3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0E426-C7B9-4B39-B891-523FD1C3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84E0E-2EEE-4385-803E-AF17A980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E5DD5-42F1-4E1F-94E2-FA6FCD85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DF0CB-2817-42A6-A39B-56A2189F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5EE-5ABD-4B47-B5B6-3B7AE72F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29E06-2465-4FDF-A847-8BB170B8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F2B3E-27B3-443C-AA5A-D85584FF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17BEA-E3F8-42D9-A3FD-F88CB607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A8869-FCB6-4E85-B6B6-8012BE26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FEC30-3AFC-4B95-80BD-6D414D6E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DE438-9906-4CE9-BCFC-970BBA15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AE75D-0FD9-4F25-8C7F-109AF5A9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ED207-C391-4BF8-BF05-1ABCF296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D4704-139C-43EC-9C1F-A421B483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431E9-C1C2-4529-A5C6-FB79DBC2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2905-7CF9-470F-B201-8ED59B4F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40FAB-46E1-4C9D-BBE1-39C60544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61F83-46F3-4112-B923-E3DDEA09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847EA-74FF-47B3-9AE6-4C498F3D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27134-F1F8-4828-B5AA-2A460E5C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C69C1-D0C1-4CE7-9FC2-1B91F6A3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1EACB-D4BD-4FA5-9C07-296666E1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34790-45B9-4CE2-80B5-01BFEE95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1C9B7-1B7D-4E23-9245-A332589E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CD133-20AD-424C-8D57-DAC99C58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C79CC-D8F4-4A30-BA23-6F410D6C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4BC-9173-40D1-9167-6A5130B4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E304E-04B6-4EB5-B258-48F289CD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7C315-0BCA-4E12-89E7-B1976940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B83A2-5812-424C-B315-AAD91757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7EA5B-AA06-4722-90FD-BDBB7D73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778F0-AF18-4664-814F-C6F023AC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FB6BD-8C45-4C43-BDE3-6D709A17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D29BC-19F8-4014-B7D0-929F75D4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8C264-EA4C-483E-A57A-F8738362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30D4A-52CE-460B-94FA-86842C2E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85B20-E4AC-44C7-95F5-CC6BE06E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6E81-637B-47F7-BFDE-54583C5D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2FA37-8C78-48F9-8689-670CA332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19895-5A27-4F2E-95C7-3624DECF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64194-8221-4725-A40E-0473FA72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3E1C2-6BC8-4C31-8FD4-1EDCB334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9D4AD-FB47-4273-B908-90950843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CBE31-6099-485B-A2D4-90B26F8B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97CCD-83F4-4A9B-92A1-9F7F05DC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81AD0-1937-4B6E-B7FA-D1EFCDE2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8898D-A391-4A13-9236-F8A33D30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3E196-CC13-46B5-A49A-F0A1C832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0C98-87D1-454F-98E4-0FD51C33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0F6DE-99EF-46FC-B9D4-0D4C8FB0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4486E-9D36-49CE-840D-45D4AE8C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330D1-C859-4C46-900A-21D0FD7F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C74D8-6C33-4C56-82A4-D7C2BF6A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51413-076A-43EE-B145-F8D3016A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53C6C-71F4-403F-8664-CEA7AABA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15F56-9D52-4788-B22C-A067E176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D79B5-14B4-49CB-A62A-BAC9568D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06BAA-F490-4D02-A25F-9902D728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D489C-AE40-4705-B472-2AC5E8E0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4A0-F2BC-4434-B0A6-60F111DB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14EDB-414D-44E5-A25C-80CA5DFF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20382-3922-4667-A4D5-C7DF512D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BCA77-E8D9-4F80-BFED-FCA51E3D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55BB0-542E-4EC0-8218-1B6B4DA4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926F4-5218-45FD-8979-CAEC657A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0F1FB-F215-4E8E-813D-A825298B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0EACA-15F1-413E-BF40-2028D05C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C2306-ADA9-43E4-9237-C46A33B5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FEA16-58C8-40AA-A5AB-280ABC8D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AC6E2-6E75-43E2-9823-0162C7A7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74A3-7718-47E7-BBA0-CECD6848E3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E2A9-808B-4C75-98B3-F24431E406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B5B0-B619-4EF7-987F-F50067B465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A272-FCD5-4C83-8EA3-41E26761AC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2ABA-B0F0-4F82-9C30-F9AD332206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1F73-7186-4031-9B17-C585161E35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2E9D-E4D8-49BB-A4E8-DECBBF325F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70D5-0E59-49FB-A682-CBFADC39A8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024B-E984-4BB5-8046-EAAE2934CC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1113-69F1-4214-B9F3-01D5507DB7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B4C1-3711-4DCD-9D86-CEE65A6D9E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FFD8-E571-4C41-9B06-24E9B6D77D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4921-FE6E-419F-BF47-DB13871310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3548-0A16-401F-9464-7EC742A8B4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7B82-9C03-480F-AB74-5C6B744FB8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68DF-11C7-41CC-8FE0-D3E745B944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0CA2-105A-45A1-9830-632D16DBB7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0EF3-1902-452D-8132-9F6A08AA87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52D1-3B9D-4545-9CC3-220388726F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CB9B-6AE4-44C6-AAEE-D6053C071E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C7A9-338C-4BFB-9AB8-BA19260079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AB78-D739-416B-83DA-55E53137B5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E5D3-AB6C-41E5-A369-5B4C229556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DE0F-032F-49F3-8E39-2FBEA70E1E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7B3E-B6D6-4D56-AD54-5177D9701A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8897-69D2-4877-8B93-557C9DE1FB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C825-EF27-41BB-9EB1-380BAAC54B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82FE-B39E-4660-AF4D-D8DB6C88C5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32FD-D8D2-4456-B0B9-2755366A31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2A99-2F69-4448-9D29-FEDDA987C6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BEEA-F6B0-4F55-BC2E-674FCE5E85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3738-375D-415D-B125-340EC138D8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F912-6922-4058-9E79-6EB3E8D9CA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C6CE-1341-434B-94CC-01033FA09C2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7F25-8B86-44E4-AA39-F81C5EF72F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F9AA-9943-4423-92CC-F6E700D185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294C-8B2C-4148-9C05-1087BBF1FE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DFDB-3CD9-41E8-9861-50C1134BE0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4A67-8800-48E5-ACB6-99C4A237EE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E274-F164-46F6-939D-F753CA133D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BC57-F114-488D-A996-94BEEDA3CB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68A5-3399-47A4-B7E4-A6AD4398D3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819440" y="2948040"/>
            <a:ext cx="5505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66600" y="1279440"/>
            <a:ext cx="7429680" cy="213372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66600" y="3502080"/>
            <a:ext cx="9010800" cy="286704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395280" y="1628640"/>
            <a:ext cx="358920" cy="2923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324000" y="2708280"/>
            <a:ext cx="358560" cy="2919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324000" y="3500280"/>
            <a:ext cx="358560" cy="2923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324000" y="4221000"/>
            <a:ext cx="358560" cy="2923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324000" y="5661000"/>
            <a:ext cx="35856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314280" y="2357280"/>
            <a:ext cx="8515440" cy="21434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1908000" y="2727360"/>
            <a:ext cx="1008360" cy="2919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1332000" y="3075120"/>
            <a:ext cx="1152360" cy="2919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4716360" y="3435480"/>
            <a:ext cx="1152720" cy="2919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3348000" y="3789360"/>
            <a:ext cx="719280" cy="2919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3059280" y="4159080"/>
            <a:ext cx="71892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100080" y="911160"/>
            <a:ext cx="8942400" cy="528660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900000" y="1967040"/>
            <a:ext cx="358920" cy="29196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900000" y="2685960"/>
            <a:ext cx="358920" cy="2923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900000" y="4130640"/>
            <a:ext cx="358920" cy="29196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5"/>
          <a:stretch/>
        </p:blipFill>
        <p:spPr>
          <a:xfrm>
            <a:off x="900000" y="4849920"/>
            <a:ext cx="358920" cy="29196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6"/>
          <a:stretch/>
        </p:blipFill>
        <p:spPr>
          <a:xfrm>
            <a:off x="1619280" y="5560920"/>
            <a:ext cx="35892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71280" y="1204920"/>
            <a:ext cx="8999640" cy="444816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2"/>
          <a:stretch/>
        </p:blipFill>
        <p:spPr>
          <a:xfrm>
            <a:off x="1187280" y="1935000"/>
            <a:ext cx="2160720" cy="2923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3"/>
          <a:stretch/>
        </p:blipFill>
        <p:spPr>
          <a:xfrm>
            <a:off x="4427640" y="1935000"/>
            <a:ext cx="936360" cy="2923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4"/>
          <a:stretch/>
        </p:blipFill>
        <p:spPr>
          <a:xfrm>
            <a:off x="1116000" y="2637000"/>
            <a:ext cx="1727280" cy="2919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5"/>
          <a:stretch/>
        </p:blipFill>
        <p:spPr>
          <a:xfrm>
            <a:off x="4140360" y="2655720"/>
            <a:ext cx="936360" cy="2923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6"/>
          <a:stretch/>
        </p:blipFill>
        <p:spPr>
          <a:xfrm>
            <a:off x="1908000" y="3357720"/>
            <a:ext cx="1368720" cy="29196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7"/>
          <a:stretch/>
        </p:blipFill>
        <p:spPr>
          <a:xfrm>
            <a:off x="4284720" y="3357720"/>
            <a:ext cx="718920" cy="2919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8"/>
          <a:stretch/>
        </p:blipFill>
        <p:spPr>
          <a:xfrm>
            <a:off x="1258920" y="4086360"/>
            <a:ext cx="1441440" cy="2919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9"/>
          <a:stretch/>
        </p:blipFill>
        <p:spPr>
          <a:xfrm>
            <a:off x="7020000" y="4076640"/>
            <a:ext cx="718920" cy="2923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10"/>
          <a:stretch/>
        </p:blipFill>
        <p:spPr>
          <a:xfrm>
            <a:off x="1547640" y="5157720"/>
            <a:ext cx="223236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8:0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